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666-E420-432E-A44E-E1D8C0C2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30E-ABF9-474E-8A3B-962847F1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DFB94-6854-478B-A227-3DA7535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38101-938F-4CB5-A6DC-9A2D1CDE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F523E-05C2-4EC6-924D-3EB735F4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B5509-3A2F-4FCB-B7A1-416FCA33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862C2-449C-4B5C-9C64-2055DE62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8EB16-D104-4CE7-BF2B-71B02D6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78A52-2770-4C7D-BF8D-CCB9EDA9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E108F-C1F8-428E-9464-CB48E8A3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EA833-9777-4CDD-AEE7-60E6221F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85F72-B1B8-40B4-902F-ACD49D38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CBB-CCE9-4FBC-A51F-F94C910C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4BDBD-0313-4AAC-B16B-43F080D9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95D95-7C8D-4923-A1F3-F690B793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079C0-9B2A-4D49-A06D-73A41393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7622A-CF57-4F53-B97A-1AFE1527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1E256-61FE-4EBB-895A-3D0BC499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C2694-0B5C-4A46-82BD-7DBB258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224EC-07BB-4906-9866-9BCB5A1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2EC4A-0432-47FB-BE23-FCDBC63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60D6C-0F69-44F6-B55D-3548679A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B0179-A30A-452F-8011-51A3D0DE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09C-BCD2-41B3-AA27-1C2313AA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D8DD8-EBCA-4152-B639-459D13A9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59B3C-32AF-4107-81A6-516EFD43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A46F-10E8-45AF-A7B6-27E042ED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42AB1-E86C-448B-8AD7-E46CDC7F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414B7-3570-4514-A491-B948EE72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63DBC-D7CB-41B0-8F33-3781A5C3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3A302-D774-47E2-BF7E-93AD775B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5582C-975D-4AC7-8AA7-9CC92CD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15189-1EB5-4F23-A477-89C5139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BE8B2-13B4-4706-95E4-BFF064D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1C37-8604-425D-B2EF-A7350BB3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ED7BB-976D-4C27-A2E6-227EE879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B6426-73A6-4F75-9BFB-D27826C7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0CBE1-9679-4509-BE30-99A6E4E4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E8C9D-1269-489E-AAD7-B8626F61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BF9E8-9DA6-4D2A-9796-0845B957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621C7-594E-4883-B896-185D583F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ED9A4-D8F4-4295-806C-B9F67B3C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9D137-4E65-44DF-BA7D-6A08C8BB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18815-6FD1-4A2F-A655-58F89967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00199-0B08-4CFB-AD0E-B85CFF8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835A-7464-4F73-BFB9-8BA9DB2F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A3727-11EC-4A5E-B97E-600C2F1B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C8D08-5BA1-4658-B105-5C5C3DAE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24B3A-28A3-4779-A4E4-877863A4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075DE-AD2C-4034-94E6-D24E0E1C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16839-3B3A-402E-B924-EEA475AD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6C82C-8F96-4E1E-A6E5-E0848E48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526F5-585D-4787-B81D-AE968641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60BCF-51CB-4370-8D8F-DD446BAD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48F86-244E-41E9-84F4-9D31E15A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E4550-2C0D-4D26-8724-98F50B3F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C3FD-DF6F-4919-B834-2FEC2949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006A4-0D57-4902-94C2-84577F75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91032-BEFF-4BC4-9F05-0E68A9AE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2FA6F-74CF-45AE-A666-643F9E2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B9C91-E599-4AEA-ACC3-5FB5FB3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F92F2-A0BA-4273-9D4C-2F8AD083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8D207-17FF-4B56-BDA4-1A7B95A9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E4887-DDFA-419B-8473-91E56F2B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44F74-D3BD-493C-8E2E-72543CDA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7F878-A09D-41C4-86FC-6577F40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C6B01-5C21-465F-927E-1CEB032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53AA-0A05-47A2-822C-0ACA34B2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79DFD-1F34-468B-A62E-5B9AC501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FC1A0-FF64-4502-BFDC-363FDBE4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BC34D-1616-4860-82DF-68C0B84B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092E4-F9EC-4B17-B866-3A3286B4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6D236-DD51-474A-8EF6-004A1E5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BBF1A-6F2D-4191-9225-6040048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3A253-83D3-4901-8337-07B8FC34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B1299-9580-427F-8D8D-B5A14CF8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48D35-3E22-4FC8-8379-B98F10E8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17C24-04F4-4B5F-9C30-97C87FE5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673B-03E7-4DF0-BF30-FB82F75E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1260E-A626-4C9C-84EE-46B04D66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3A809-2B28-4FB3-AE77-C53FEC79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83A52-1F60-49D5-B4C7-377BD034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C4278-3810-419C-865C-48CCC517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4104C-C7F1-4A80-9612-E5DFF0C1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DB83D-49B7-4F03-A2DB-CACB8C4E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E2867-C488-4A25-AC46-624DD1E4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5768A-15B8-48FF-B9C2-3A40E9C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AB43C-F252-4809-A7F3-9043AA1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2BD31-2F0A-453A-8C07-000E5DE7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5077-56E5-4A71-A4D1-557A3401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9F723-AE47-4B68-A8A6-9945950D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3992A-21A5-4B04-AF97-8F976521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BDE70-D92C-4990-93E0-3FA6B9A3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B01EC-2A1F-4E16-99B2-1565ADD4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C1E89-3D9A-478E-BD57-1C263B20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8F836-EBB7-4308-8AF5-BBA75A3A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E1481-E236-4713-A7E9-3FBD83F6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6FB8A-C79A-4F78-AF9F-F71830F0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E8739-47CF-4D2D-88FF-2420B5CC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53551-B7DE-4426-9C4B-421CC15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5CEA-8BF2-4D2E-B7D2-F3A7F566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CC4C9-198E-47BE-A24D-A75068AF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5E489-5F4B-42E8-8DB3-20E96E1D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34851-4E5C-49D2-BDD4-F854EAFA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8C1BA-311C-4798-8326-E1002647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FD9CC-A862-4DC5-9AF9-A5BA403B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2A79D-3F9B-4B90-87F4-B019FD22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86416-30E1-416C-84BC-772F7773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454F7-8FD4-4197-80E3-CC67385C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07B59-B577-4FF9-BCCB-B1264321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F0D64-E563-4B22-85A8-3E3966E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41C-DC4E-4DDD-8A66-A8549D20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C9BF-2F68-415B-81E9-88F697B6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9D730-AC99-4E79-9BB4-F2DCE83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5339B-ECDD-4E7E-86C8-28FF6E7A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405E4-9A44-4FF2-9EAC-42E0F79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C5DA5-F72B-45D0-8EDF-B0B0495A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169A4-5DE7-473C-8FA4-07382D2D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920BCE-5950-4955-8503-8B8C1428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A6C9F-5DBF-4667-9F41-90D90DDD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7476C-85BD-44E6-A4FF-1A1B26E2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19E70-429A-4855-97F8-FEAF020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1A1F3-3EAB-44CF-A314-1A42EE55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D602-EEED-4430-A9E9-9B4F99D4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0DA3C0-914A-4021-8743-C844F4D6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B846B-80EE-49F6-A8B1-4EC5585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25842-BB2B-43C8-8046-B8C7E43B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9D01A-4043-479F-A743-C53B18B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2AA06-5366-4442-9D0A-B520CE3B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20B88-381E-4F78-8B93-BC0E8808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1BF80-7B6C-4391-846E-F4B5244A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B701E-94C8-48E4-9BC5-271654E2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91FBE-29E9-4D7D-AE11-8BC9883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655EC-C0B2-4D88-BD3A-F11F3AC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4B88-18D5-40C3-A7EC-D13B5307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291BB8-5428-4FFD-B108-F6B03C35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3C73A-CD9F-4B3F-9C15-C249817E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8A62F-AB01-4C7B-8ABC-BCC0D3D4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E210E-6E43-43CD-B78A-93DB26B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B6FBE-15BA-4B2F-A836-49E5B6B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44E8AF-A6BE-4779-A78E-647C1803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36728-E4A0-4824-9BE6-BDA07F32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BF2E74-5326-4508-94BB-874392D3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FBC96-6CC2-4467-8C34-350C0E94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DA509-A3EA-46EB-B7C3-E33CBA97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325E-66BE-4673-801C-BD653E4C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B9B808-40D5-4E4C-AE2A-E247BAD5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6F44C-9998-45CC-B103-44B06E84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EED909-2FA3-43FF-BFE8-BC60C1DA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C4812C-4BF1-41A2-8311-7E49FAA1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AA741-1A8D-4696-A221-5C00BB91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F5DE9-80B2-4A0A-8E84-02A4177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70394-366E-4870-8F08-99D47EE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CA6EA-4C37-4D0A-B1B7-5E4E800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04A31-1E65-470C-9A96-E254FD12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EEB871-2964-4396-9084-2ACC5986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0110-937F-4A05-8E65-B7EBD957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B5814-C087-41AA-A31B-E3BFE7C9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877A71-CC7E-41CE-92F0-60D2CFF9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E5FEF6-89F9-4269-8949-80E20F2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40959-D74E-4D41-8820-C1CCC4E2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848781-D6E7-4F32-B373-EE7B2068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2EAE9-C077-4E73-AAE6-1A8FBD2D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B36B30-CB57-4139-8CA2-6A0703DB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89C04-EF00-4BE9-864F-1F17A512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C5E35C-7A06-4B95-982D-002B40C1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F3FE6-4D2B-4182-AB23-81BBA708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F37A-F76E-4578-9BE1-A8473E60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941B1-97F2-4752-827A-0708A443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B14796-AF27-42B4-A401-FCE333A0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3ECB1-C13B-4249-99C5-DD4136D7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CD64-A1E1-4DB8-BEA3-B350C6C8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1DBA-9903-49E8-98B9-F2A96449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0D00-4A6F-4414-929B-492A21A8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DB94-6CB7-465C-A37A-A0A06BCE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06F-D876-470E-8F89-FF8D7C5D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BA75-64BC-46EF-A1EB-EF81726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72F1-676D-4B0D-AF99-ECF50352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9D00-162C-4E78-BE7D-A8B9746F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2D1B-9226-4A34-953E-A9F96D3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FA0C7-7047-4C41-B679-803328FE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CA11-02FE-4D84-A247-C07A9A68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5F62-631B-41C7-AF85-351D2B53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FE12F-89E5-4B8E-896C-CBB95A92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FAF4-DEF5-4464-8F56-73B30362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4FFE-0507-4FA0-9699-6B8EBD7C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995-0D68-466E-81C2-CBA75900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FF05-C3D0-4707-A6B2-CA682FE1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8989-06B3-4FC2-9AC6-C2AF2207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B6F67-A073-4833-A255-8E4E6DC4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6BDC-8F3F-411A-9F24-F942DDF0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0EA9-2C70-49B5-94F7-5710F847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F62B9-C219-474C-A75C-56A1CA08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2A11-D47E-409C-9CD8-5EB7ED45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B218-980C-4946-94EF-D22E6DAD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D762-75A8-42CF-96E9-7DF02381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EB987-67E3-41EF-AC53-BFCCCC44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2AF-0A01-4438-BAD7-EF25A827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FDCA-32F1-48F2-9DB8-805DB50B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E6C74-4FB3-4479-A74C-12C1219F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0BCDB-66A9-462E-8010-2CD8A4C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980C-85A1-4129-AD61-285DFED7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F059D-F233-4811-BCD3-619D7C2B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6B3B-85DD-4E71-A917-455EBB29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9DF1-3207-41AF-89D6-A69DD0A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10DF0-B15D-47E6-AA9D-EB9BF5D4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2AFD3-D96E-46A7-AC97-0D8635FE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A27D1-1F79-484C-8FD9-65A240AF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CD0-A46B-4D8B-82B0-4BF7234E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25739-189D-4F74-890A-6876235A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82981-9062-4C29-8A9E-776FD673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D069C-A395-4189-916D-D27BC6BF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E33B7-B703-499A-8976-C8736108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C3F4B-4AC6-47A9-80B2-EB31FAC1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D8E5A-E110-47CB-9A2F-5E754118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D9B74-D2B3-4007-B2CF-B8B55384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CA003-E0C1-48DD-8E0C-D393089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B58CE-AE6A-444C-B674-75687AE8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8CF93-1131-4AB5-8E93-8155838C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E8B-B65A-4F00-B733-1E45D913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8D06F-A4D5-445E-9A19-70D2C6B8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59CEF-0DF7-4D83-9CC6-DE994E77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1E102-9DFE-4942-BFBD-A74DEF01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115C2-728A-4C0C-A70C-F8AD491A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B1972-5C36-46CF-B620-B9BDE5A7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6234-2DC7-4DB5-9DA4-E0CEB355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0748-880D-46F4-86FC-EBCEC97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571BB-2C77-45C3-A433-4F05D35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4778B-0D51-41CC-945A-06C220B6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BAC2F-2386-4D26-BB8F-B779B84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EB0-C3E4-49B5-B342-C33874A3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E58B7-A59C-40D8-9484-555F533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53432-04CB-4A31-B9A5-02FAFB4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9F33-D487-4A83-A921-DA7457E2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EC629-786B-4690-B6C9-94A5748F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06B1D-015A-4CD5-9C2D-B34D44C4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F2445-2343-4927-B324-960CC47C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422A1-03FC-4D97-9006-E92B9FCF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20888-0D96-4A35-B441-0D8D473B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C5751-5BD6-4CF8-85A2-193DC7B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B458-A9F8-4EF2-B531-23AF7FDA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5CE-7925-4069-8FCE-C13DF4F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350F0-57B5-430B-927A-F657BA1F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7F01A-9494-495A-8AA4-FF26C59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86EB-5879-4CAD-861A-CBD7741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51F3F-1207-4193-A715-393CAD6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996F7-732E-4435-9CF1-F45E6ACC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F7EBF-8727-44B4-B76F-4B45E5E9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A3668-8BD2-41DC-AB41-D1DE4AED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348F3-B129-467E-9370-AA88478B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E3EAC-7157-4C6C-86CD-B282935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ABAFE-AB34-4563-BE68-03587033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B914-F609-4BEE-9084-F0C1BFD1B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6D03-E679-4EC0-BD48-F712368BF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D567-B685-4221-AF24-AF88ADF1F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BDF5-793C-4BF9-B3DA-8D38EC614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9D33-62AE-4661-9638-0E31560A6C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CA11-A4EF-4914-87BD-8D453167F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1790-3265-4B3F-9F71-A3EEB0A588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D56E-6059-43E9-94F8-6E92BDAFE7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9407-5A60-48B0-BD42-9FC716C6B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BF23-2536-4C7E-9569-DE9DB0041E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A7D4-F530-48FD-A474-F37AE4C4C3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324C-C151-4A83-AF05-D73A0507B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D98F-095E-4B52-9941-90D859849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C13A-8977-411A-8C1B-A4139BF40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8074-E7A2-448E-A6E6-3DDEA77DB9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5179-1ABB-4A64-808C-4A6F5AB56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E3BE-435D-48E5-913F-42E82C8D5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38C2-127A-4BE7-BF78-7D0357827A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31DB-47B3-4B7B-B15E-2EEEAEFE4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8C8B-C9EB-44CC-A6FC-D4A1DD09A1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8152-2D01-4C51-8F3C-8FBB1462D4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CC99-E50E-4172-957B-A4F5703D7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F39D-1B62-45EB-8DD7-DCEA93100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B7CF-1983-4584-A490-563870E31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9025-1C23-4CBD-9026-142B55A857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FF38-84F9-42B0-BB03-E7A733009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ABE8-3879-4193-8F1F-BE55B3A523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4087-D2AF-44DF-9070-1EFC8A7C4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6BD3-1A6D-492B-81E8-254BD0E562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A174-6A88-4EAA-A964-75AE047454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8C8A-E9B5-4CB0-AC23-FAA8E12D8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A577-2291-4412-A10A-57FF74EEF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4E05-DF9A-4C87-9213-C93F16303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ED0F-A4BF-473B-9DB0-4D2136E236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0919-7D67-452D-8412-2833853AD3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290F-3B41-4C93-B512-FD40EF5687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4291-1380-43E3-8EAF-B95902443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3F1-F799-47F2-BAAA-D054DCB32A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D079-4F01-4EDC-8752-04FAFA0209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42E6-112B-4ECD-AC64-17EF42149E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000080" y="1928880"/>
            <a:ext cx="7029360" cy="9237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143080" y="3286080"/>
            <a:ext cx="4714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99880" y="1647720"/>
            <a:ext cx="8544240" cy="35625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5072040" y="3143160"/>
            <a:ext cx="2643120" cy="3970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6786720" y="3929040"/>
            <a:ext cx="1714320" cy="396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4786200" y="4362480"/>
            <a:ext cx="2071800" cy="349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4429080" y="4751280"/>
            <a:ext cx="19288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352440" y="866880"/>
            <a:ext cx="8439120" cy="5848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2"/>
          <a:stretch/>
        </p:blipFill>
        <p:spPr>
          <a:xfrm>
            <a:off x="8001000" y="2389320"/>
            <a:ext cx="465120" cy="395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3"/>
          <a:stretch/>
        </p:blipFill>
        <p:spPr>
          <a:xfrm>
            <a:off x="7943760" y="4768920"/>
            <a:ext cx="465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361800" y="833400"/>
            <a:ext cx="8420400" cy="5810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2357280" y="1571760"/>
            <a:ext cx="1857600" cy="396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2643120" y="3898800"/>
            <a:ext cx="85716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57280" y="861840"/>
            <a:ext cx="8029440" cy="5781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2"/>
          <a:stretch/>
        </p:blipFill>
        <p:spPr>
          <a:xfrm>
            <a:off x="285840" y="19591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285840" y="2346480"/>
            <a:ext cx="8786880" cy="425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285840" y="27147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5"/>
          <a:stretch/>
        </p:blipFill>
        <p:spPr>
          <a:xfrm>
            <a:off x="285840" y="31431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6"/>
          <a:stretch/>
        </p:blipFill>
        <p:spPr>
          <a:xfrm>
            <a:off x="285840" y="35114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7"/>
          <a:stretch/>
        </p:blipFill>
        <p:spPr>
          <a:xfrm>
            <a:off x="285840" y="38718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8"/>
          <a:stretch/>
        </p:blipFill>
        <p:spPr>
          <a:xfrm>
            <a:off x="285840" y="42908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9"/>
          <a:stretch/>
        </p:blipFill>
        <p:spPr>
          <a:xfrm>
            <a:off x="285840" y="465768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10"/>
          <a:stretch/>
        </p:blipFill>
        <p:spPr>
          <a:xfrm>
            <a:off x="285840" y="50562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11"/>
          <a:stretch/>
        </p:blipFill>
        <p:spPr>
          <a:xfrm>
            <a:off x="285840" y="54338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12"/>
          <a:stretch/>
        </p:blipFill>
        <p:spPr>
          <a:xfrm>
            <a:off x="285840" y="58230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13"/>
          <a:stretch/>
        </p:blipFill>
        <p:spPr>
          <a:xfrm>
            <a:off x="285840" y="6219720"/>
            <a:ext cx="8786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536400" y="785880"/>
            <a:ext cx="8255160" cy="6000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7000920" y="2000160"/>
            <a:ext cx="1214280" cy="397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7929720" y="4786200"/>
            <a:ext cx="42840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318960" y="809640"/>
            <a:ext cx="8506080" cy="5905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4786200" y="2071800"/>
            <a:ext cx="500040" cy="396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3"/>
          <a:stretch/>
        </p:blipFill>
        <p:spPr>
          <a:xfrm>
            <a:off x="285840" y="54039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4"/>
          <a:stretch/>
        </p:blipFill>
        <p:spPr>
          <a:xfrm>
            <a:off x="285840" y="580068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5"/>
          <a:stretch/>
        </p:blipFill>
        <p:spPr>
          <a:xfrm>
            <a:off x="285840" y="624060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295200" y="1123920"/>
            <a:ext cx="8553600" cy="5019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2"/>
          <a:stretch/>
        </p:blipFill>
        <p:spPr>
          <a:xfrm>
            <a:off x="285840" y="44132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285840" y="47912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4"/>
          <a:stretch/>
        </p:blipFill>
        <p:spPr>
          <a:xfrm>
            <a:off x="285840" y="52196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5"/>
          <a:stretch/>
        </p:blipFill>
        <p:spPr>
          <a:xfrm>
            <a:off x="285840" y="560880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15:30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